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63E-F7B2-477D-BF2A-D916E61C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A2E-F2C4-4387-953D-B9A50E33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E9C-1A84-4CC3-862F-FF61E4B8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567-43D9-4594-9D8B-8F363386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4C61-C039-475C-BA2F-4BD91BED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749-D51D-4728-B8AD-D12D7A23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24A-6F84-41C2-B697-BBC4D69B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BDF-B484-4A4A-A929-3BB0B067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C51-0843-488E-B0AC-98D9387F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54AE-342E-4F00-9262-6B4E07C1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DD41-0037-4000-9CE2-F6D4AB9F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D86-791D-41B9-9681-866A4B7A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C904-71E8-49DF-B941-688354ECC1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3-10-09-04-00-4048972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00"/>
                </a:solidFill>
                <a:latin typeface="Times New Roman"/>
              </a:rPr>
              <a:t>Welcome to my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40480" y="4540320"/>
            <a:ext cx="485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By Wang Y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ior Class2, Grade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nk for one’s hel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for all your hel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’s very kind of you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 you from the bottom of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y th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fuse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,th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manage it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all the s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you any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t out the following sit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4200" y="838080"/>
            <a:ext cx="655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udents’ activitie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EN00500_" descr=""/>
          <p:cNvPicPr/>
          <p:nvPr/>
        </p:nvPicPr>
        <p:blipFill>
          <a:blip r:embed="rId1"/>
          <a:stretch/>
        </p:blipFill>
        <p:spPr>
          <a:xfrm>
            <a:off x="5029200" y="3389400"/>
            <a:ext cx="3673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1: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An old man is carrying a very heavy suitcase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老人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62520" y="25142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2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body is late for a flight and wants to go ahead of the que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排队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tuation3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old and sick person is on a crowded bus and wants to sit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t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464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unfai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fai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公平的，不公正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fai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不公正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and squar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光明正大地， 公正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 pla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平竞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g: This is a good game and they beat u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fai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squar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管理，经营（尤指商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 hote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营一家餐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the money very wel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很善于理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nage to d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功地应付（问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box is heavy, but I can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age to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过去时通常指尝试去做并且成功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 to see him in prison and gave him the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_ to see him in prison, but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6840" y="48546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360" y="57150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9" descr=""/>
          <p:cNvPicPr/>
          <p:nvPr/>
        </p:nvPicPr>
        <p:blipFill>
          <a:blip r:embed="rId1"/>
          <a:stretch/>
        </p:blipFill>
        <p:spPr>
          <a:xfrm>
            <a:off x="-685800" y="-1676520"/>
            <a:ext cx="10366200" cy="10366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Lucida Console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1879560" cy="537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12193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8764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BODY LANGU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ody" descr=""/>
          <p:cNvPicPr/>
          <p:nvPr/>
        </p:nvPicPr>
        <p:blipFill>
          <a:blip r:embed="rId1"/>
          <a:stretch/>
        </p:blipFill>
        <p:spPr>
          <a:xfrm>
            <a:off x="3809880" y="2370240"/>
            <a:ext cx="5334120" cy="4487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Warming up:</a:t>
            </a:r>
            <a:br>
              <a:rPr sz="4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hat is body languag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way to communicat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ithout wor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sometimes more than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n you understand the meaning of the following  ges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victory2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3400" y="548640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ctory/W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4680" y="548640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e/Grea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great2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632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andshake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64796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promise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00" y="4800600"/>
            <a:ext cx="48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ndsh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riend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800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ake a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n you are walking in a street alone,suddenly you fi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omething terribl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maybe it’s a piece of human skin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’re watching a film in the cinema. You enjoy the film very much, but the man sitting in front of you is talking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You want to hear somebody more clearl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 the English class, you want to sleep very much, but you don’t want your teacher to know that you are slee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ffer hel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 I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can I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some hel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nything I can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ld you let me give you a h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me to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all I help you with that? 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k for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use me, could you help me with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re anyone who can help 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give me a hand,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ld you help me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4:12:47Z</dcterms:created>
  <dc:creator>myth</dc:creator>
  <dc:description/>
  <dc:language>en-US</dc:language>
  <cp:lastModifiedBy>myth</cp:lastModifiedBy>
  <dcterms:modified xsi:type="dcterms:W3CDTF">2004-06-06T14:55:48Z</dcterms:modified>
  <cp:revision>15</cp:revision>
  <dc:subject/>
  <dc:title>Welcome to my class!</dc:title>
</cp:coreProperties>
</file>